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D757-395A-4E3D-92AA-31BF35997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2EAD-A339-4743-8444-0E1337AD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78CC-A5DD-4C4E-BFAB-D475008F1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EBF7-3A52-497E-9022-03A60F2B2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483D-BAAD-48DE-963E-2C88DD43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5DE5-6AC5-449D-98A4-0C4B2F27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4F36-17E4-4629-81B0-6F3BBCA2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D241-85C6-4F4A-AA20-A11E0A9D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3AE1-1996-49C2-A350-FB11294A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CA19-E7AA-4CF0-A34C-1F4E3223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4044-4C5E-4F31-9886-0FC4E9C5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643C-EC9F-46A3-8E63-1709537C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FEBE-3FF6-4C95-933F-49D554BFD8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1905120"/>
            <a:ext cx="79246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Сравнительная характеристика Обломова и Мани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Мечты геро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лом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6840" y="1752120"/>
            <a:ext cx="40402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чты о собственном благоустройстве, размышления о человечестве и искусств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жаления о бесцельной жиз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7960" y="10663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ни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4720" y="1752120"/>
            <a:ext cx="40417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н предается мечтам, бесплодным и фантастическим, которые никогда не сможет осуществить, так как всякий труд, любая деятельность ему чужд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чтает о том, как хорошо бы построить через пруд каменный мост или от дома повести подземный х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Общий вывод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а помещики, оба не любят заниматься хозяйством, вести приходные книги, у обоих родовые имения находятся в запустении (деревни Маниловка и Обломовк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обоих героев - «отсутствие всякой определенной идеи, всякой сосредоточенност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голь характеризует Манилова как отрицательного персонажа: «мёртвая душа», за «сладостью» скрывается безразличие и даже жесток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ломов в изображении Гончарова не мнимо (как Манилов), а действительно приятный, и действительно добрый, мягкий, откровенный и сердечный человек. И он вызывает в окружающих людях совсем иные (чем Манилов) чувств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Общие вывод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ломов,  несомненно,  и   гораздо   умнее Манилова, и совершенно лишен той  восторженности  и  слащавости,  которые  в Манилове преобладаю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значением Обломова станет смерть. Вечный покой, вечная тишина и ленивое «переползанье» изо дня в день тихо остановили машину его жизн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ьзуя выражение Белинского, можно сказать, что Манилов- «старший брат» Обломова, в котором эта помещичья лень достигла крайней степе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litra.ru/composition/get/coid/00277031253376808705/woid/00012601184773069654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litra.ru/characters/get/chid/00708531190817804854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otvet.mail.ru/question/48911591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otvet.mail.ru/question/47631457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oblomov.omsk.edu/koi/index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. В. Гоголь «Мёртвые душ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. А. Гончаров «Обломов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авнить характер Манилова («Мертвые души» Гоголь) и характер Обломова («Обломов» Гончаро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йти сходства в характерах герое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йти различия в характерах герое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нешность геро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лом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6840" y="198108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ет 32-33 от род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еднего ро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ятной наруж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тёмно-серыми глаз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 с отсутствием всякой определённой идеи, всякой сосредоточенности в чертах ли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вет лица «безразличный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7960" y="1371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анил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7960" y="198108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рты лица – прият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елоку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голубыми глаз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Сладость» в лице и глаз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6" descr="im16.jpg"/>
          <p:cNvPicPr/>
          <p:nvPr/>
        </p:nvPicPr>
        <p:blipFill>
          <a:blip r:embed="rId1"/>
          <a:stretch/>
        </p:blipFill>
        <p:spPr>
          <a:xfrm>
            <a:off x="990720" y="762120"/>
            <a:ext cx="3504960" cy="478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2" name="Рисунок 7" descr="3288_original.gif"/>
          <p:cNvPicPr/>
          <p:nvPr/>
        </p:nvPicPr>
        <p:blipFill>
          <a:blip r:embed="rId2"/>
          <a:stretch/>
        </p:blipFill>
        <p:spPr>
          <a:xfrm>
            <a:off x="4724280" y="1523880"/>
            <a:ext cx="3811680" cy="2971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3" name="TextBox 8"/>
          <p:cNvSpPr/>
          <p:nvPr/>
        </p:nvSpPr>
        <p:spPr>
          <a:xfrm>
            <a:off x="2057400" y="57913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ни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6095880" y="47242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о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Характер геро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лом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828440"/>
            <a:ext cx="40402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енив, любит «поваляться» и поспа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нсервативен во вкусах и взгляда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ечтател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 занимается хозяйство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лавное для него – покой, не терпит сует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 любит заниматься делам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ружелюбен с друзьям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призен, может вспыли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960" y="12189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ни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4720" y="1828440"/>
            <a:ext cx="4041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еловек «ни то, ни сё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ружелюбен «до тошноты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«От него не дождешься никакого живого слова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ного думает, мало говори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Хозяйство идет «само собой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покоен, умиротворен, мяго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«Сахарное» удовольстви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о всех хорошего мнения, всем старается угоди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Занимаемая долж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лом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676520"/>
            <a:ext cx="40402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ворянин родом, коллежский секретарь чином, безвыездно живет двенадцатый год в Петербург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В Гороховой улице, в одном из больших домов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наследству досталась деревн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960" y="9903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ни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4720" y="1676520"/>
            <a:ext cx="40417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мещ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енат, двое детей (жена – под стать муж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ивет в 16 верстах от уездного город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деревне Маниловк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Наличие слуг у героев и ведение хозяй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лом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2057040"/>
            <a:ext cx="40402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уга Заха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ревня ( всем заправляет староста, хозяин ничего не знает о доходах и расходах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960" y="1371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ни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7960" y="2057040"/>
            <a:ext cx="40417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Хозяйство идет само собой»: помещик не знает о судьбе своих крестьян (приказчи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го крестьяне живут в нищете, в доме царит беспоряд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Друзья и светская жизнь геро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лом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1676160"/>
            <a:ext cx="4040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лков, Судьбинский, Пенкин; Алексеев Иван Алексеевич, Михей Андреевич Тарантьев, Андрей Иванович Штольц («человек действия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любит выезжать из дома, «не подъёмный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960" y="9140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ни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4720" y="1676160"/>
            <a:ext cx="4041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иновники уездного города, помещики (Ноздрев, Собакевич и т. д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почитает домашний уют, но не против поехать в город, в г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наговаривает на друз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5:47:16Z</dcterms:created>
  <dc:creator>Катя</dc:creator>
  <dc:description/>
  <dc:language>en-US</dc:language>
  <cp:lastModifiedBy>Admin</cp:lastModifiedBy>
  <dcterms:modified xsi:type="dcterms:W3CDTF">2013-05-07T14:45:05Z</dcterms:modified>
  <cp:revision>12</cp:revision>
  <dc:subject/>
  <dc:title>Название презентации</dc:title>
</cp:coreProperties>
</file>